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F2C-64F4-458C-A481-C47E71AE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D5D-2EDD-4150-8177-A0E391AB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F6E-B72C-4D73-BFF9-12FE8281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164-9BF7-4986-BB9B-F8801E91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986-EE98-4E4F-B114-854E7F2F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6F6-BF3F-4477-AF0B-2227C6FC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7D3-C493-4128-BD72-F00B98A1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182A-A39D-4AE8-9825-74BB0C68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BAC-57A7-4FE1-A6D4-26E7747C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0CB-4C33-4950-99B1-4D44F214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9C6-83D8-4A10-8A5D-FCFBEE1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AC3-3E51-4F16-9B3E-C6238CDD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F1C5-8EF8-4F02-90BA-71C513A85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gbog.com/gallery/russia_pictures/russia_pictures_st_pete_1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askerville Old Face"/>
              </a:rPr>
              <a:t>Its always tougher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erlin Sans FB"/>
              </a:rPr>
              <a:t>By Wayne and Coll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4953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ssia was very strict but they gained their    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government told everyone what to do but now people can decide for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eedom can’t always help them because they may become un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184480" cy="2425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Baskerville Old Face"/>
              </a:rPr>
              <a:t>Russia’s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ritannic Bold"/>
              </a:rPr>
              <a:t>In Russia, there is a lot of pol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ritannic Bold"/>
              </a:rPr>
              <a:t>Pollution can have a bad effect not because it is bad already, but because it affects tourists and the econ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ritannic Bold"/>
              </a:rPr>
              <a:t>Pollution in Russia can affect tourists because tourists won’t want to come visit an area with unhealthy pol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ritannic Bold"/>
              </a:rPr>
              <a:t>Pollution can affect the economy because if tourists don’t want to come there is a big decrease in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Russia pictures - Red Square 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People of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Unicode MS"/>
              </a:rPr>
              <a:t>Russia is one of the most populated countries in the world with a population of 145.5 m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Unicode MS"/>
              </a:rPr>
              <a:t>90% of them speak the Russian language 75% of Russians live in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Unicode MS"/>
              </a:rPr>
              <a:t>The apartment buildings are very small and cramped some hold over 100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5 0.00555 L 0.01667 0.00555 E">
                                      <p:cBhvr>
                                        <p:cTn id="148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Clim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Castellar"/>
              </a:rPr>
              <a:t>Most of Russia is a subarctic climate. Two other parts of Russia are steppe, humid continental, and tundra clim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Castellar"/>
              </a:rPr>
              <a:t>Most people live in Western Russia because they have steppe, and humid continental which are better for far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85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38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38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385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38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38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385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7:10:30Z</dcterms:created>
  <dc:creator> </dc:creator>
  <dc:description/>
  <dc:language>en-US</dc:language>
  <cp:lastModifiedBy> </cp:lastModifiedBy>
  <dcterms:modified xsi:type="dcterms:W3CDTF">2010-12-20T17:16:10Z</dcterms:modified>
  <cp:revision>4</cp:revision>
  <dc:subject/>
  <dc:title>Its always tougher in Russia</dc:title>
</cp:coreProperties>
</file>